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60378-B9BD-4D64-AA73-9980935F7AB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6DE644-7711-4AD1-B7F0-B3B6DB7DDCD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C873821-2122-4B18-9A27-7EA11CD01A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D0C53-7221-48EF-BC28-096EB2F21B6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F1840-6376-47D4-9D78-CFE713E800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CBBBA8-E783-4058-97CC-8074BCB90C6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AB771-545C-41C9-B3D1-E992CC1A747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5FBFF5-3CB4-4C66-862A-3FFC753686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33474D-EDDA-42BE-84BD-7F86416E39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F1FD6F-C80A-477E-AFEA-9E29570FCF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110CC4-F777-4156-AA9E-B546F95B90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98ACC-E4DE-451A-84D1-A48A47914C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AU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AU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787D4E-9F40-491F-94CB-29745CF28771}" type="slidenum">
              <a:rPr b="0" lang="en-AU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1523880" y="1122480"/>
            <a:ext cx="9144000" cy="238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60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523880" y="3601800"/>
            <a:ext cx="9144000" cy="1655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AU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08:37Z</dcterms:created>
  <dc:creator>Tim</dc:creator>
  <dc:description/>
  <dc:language>en-US</dc:language>
  <cp:lastModifiedBy>Tim</cp:lastModifiedBy>
  <dcterms:modified xsi:type="dcterms:W3CDTF">2019-01-22T00:09:12Z</dcterms:modified>
  <cp:revision>1</cp:revision>
  <dc:subject/>
  <dc:title>PowerPoint Presentation</dc:title>
</cp:coreProperties>
</file>