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5670550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B0E10C-5BBC-4925-AF76-8FEA5C01CB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1DA646-7366-4421-81A2-263D5BAD2E5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8E9F-C0F3-4868-A86F-D5A7310C33D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32732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3044160"/>
            <a:ext cx="291996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9D0F89-B7BD-494A-8D44-A0D1E46C743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38E6AA-48FC-4062-9249-21FBE8A9D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AEF9C-8FD8-4846-BD3D-3571592E86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15174C-0FC6-4612-82E9-5A0D422853E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634582-0551-4478-BF05-FFE8AA4783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225360"/>
            <a:ext cx="9069480" cy="4380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D5D54D-FAAF-4C97-B717-887E4289768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0A27-9591-4876-89FC-9C116E68A8F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304416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EFCA02-A8CD-4BEB-B18A-B1CAC8A32D5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327320"/>
            <a:ext cx="442584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3044160"/>
            <a:ext cx="9069480" cy="156744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E5620C-515A-44FE-8AEF-906FDFC1D5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69480" cy="94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327320"/>
            <a:ext cx="9069480" cy="328608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 fontScale="76000"/>
          </a:bodyPr>
          <a:p>
            <a:pPr marL="26064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60640" indent="-260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5165280"/>
            <a:ext cx="23461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5165280"/>
            <a:ext cx="319392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5165280"/>
            <a:ext cx="2346480" cy="389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B7E636F-69A0-4853-8FE6-302FF218B31F}" type="slidenum">
              <a:rPr b="0" lang="en-AU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225360"/>
            <a:ext cx="9070920" cy="94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327320"/>
            <a:ext cx="9070920" cy="3287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9-01-22T00:17:45Z</dcterms:created>
  <dc:creator>Tim Starling</dc:creator>
  <dc:description/>
  <dc:language>en-US</dc:language>
  <cp:lastModifiedBy/>
  <cp:revision>0</cp:revision>
  <dc:subject/>
  <dc:title/>
</cp:coreProperties>
</file>